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D70-10E1-464C-ACF3-76A49606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F62-4076-400E-99D0-B456EBA9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AAC-84F4-47C6-95BF-5C34D260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8CB-04B8-42D1-B9C1-E0B468F8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14A8-0181-4CA9-AD79-D293A30C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E69A-9347-41C4-8784-5D6EC45E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FE8C-8632-491D-82DE-A7DC81AB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E624-E41D-4D1C-99A2-2312FA24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40FE-DEF6-4028-9464-72F73BF4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9578-EF5D-406D-ACF5-302306B1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5793-7EBC-4D6A-8417-D1E5FA2D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538-72CC-4190-BF8B-54071C94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C413-F480-4151-852F-E5C458AE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C83F-A296-482C-8C89-76531D19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C573-6E55-4DDB-874F-0BA9E729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0062-F5C8-4C01-9A14-64FB8613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C8C6-C2BE-4E99-96ED-A9B7152C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928-48E7-4AA2-943B-58847339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8B6-0982-4881-BC6F-8D09B049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A49-7265-4DA7-8F92-4AFBF0AB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DE1-6566-4355-8E31-BC5ECD7E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E40-B605-4868-AE39-C8427D3E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8E5-DA75-440D-A710-984C263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FDD-61FF-4400-A7A4-11B7B38A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2B91-AE39-40F2-8C40-4EBC1CA11FC8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E5BD-BA5E-444A-8054-71234533DEE3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39720" y="1447920"/>
            <a:ext cx="481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Lesson twent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840" y="2895480"/>
            <a:ext cx="619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One man in a boa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246960" y="905040"/>
            <a:ext cx="9044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What’s your favourite spor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2. Does it worry you if you don’t catch any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3. Do you often fish without catching any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4. Are all fishermen unluck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5. But some are, aren’t the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6. What do they catch instead of fish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7. Why do you think you are even less lucky than the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fisherme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8. Where have you spent whole morning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9. What do you always go home with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0. What do you friends say you must do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1. What do they say about fis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2.What are you really interested 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25200" y="781200"/>
            <a:ext cx="8059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Tell the 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Fishing—favourite s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2.often—hours—any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3. some—luck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4. Instead—fish—boots—rubb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5. I—l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6. never—even—boo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7. whole mornings—river—home—emp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8. ‘give up’—frieds—’waste—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9. don’t realize—important 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0.not—interested—f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1. only—sitting--no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4120" y="835200"/>
            <a:ext cx="919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Key to summary writing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Fishing is the writer’s favourite spor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.Some unlucky fishermen catch old boot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and rubbish.Thewriter is not so luck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He never catches anything.He is no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intersted in fishing. Sitting in a boat an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Doing nothing at all is the only thing that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interests him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2:03:38Z</dcterms:created>
  <dc:creator/>
  <dc:description/>
  <dc:language>en-US</dc:language>
  <cp:lastModifiedBy>钱良</cp:lastModifiedBy>
  <dcterms:modified xsi:type="dcterms:W3CDTF">2002-07-08T02:30:33Z</dcterms:modified>
  <cp:revision>1</cp:revision>
  <dc:subject/>
  <dc:title>PowerPoint 演示文稿</dc:title>
</cp:coreProperties>
</file>